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4E3-4E76-46FA-938C-3D06F7C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7A8-8432-4807-927E-47188EF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B08-ABF8-4FD0-ACB4-5560702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CF4-A37B-4039-B5AD-6BBB3336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C911-E33B-41D7-8575-5ACD2EE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BD18-295B-4AFA-8B0C-56F6916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133F-1A78-48D8-9CF0-14C3760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7FE2-E81C-4D46-BD76-E8889015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7BF-A72F-4B67-BCFF-8003956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C39-133E-4505-8995-9B87963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DA15-1D24-461A-8E79-EF3AC01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161-BBF2-4410-A71B-D8A012D7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FCB9-B440-47AF-BB86-5DFC400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184-5EB9-4857-9CA4-6073FCE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341-1FA2-412B-BD54-C898453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A07-FF3E-43CD-80FB-37A74CC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7DD-3F6E-4AE2-8630-830DA89C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CD2-FB3F-4D66-A4B7-CCEBE255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53A-C987-4B7F-96D1-187F567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B32-18C8-464F-B7DC-4C9E67C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9BE-E836-4100-88EB-7492E34C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751-2F85-4EA4-A904-BA87DC8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8A1-1370-4A67-BEFE-F1514F8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E02-CF0C-4126-A0AA-B44119D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F87-AB27-460A-9246-FEF7BA9EAD02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A0F-1E70-4CAE-BCF6-76FF19DBFF7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ime to Party…almos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ay 1 of Micro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tions 1 &amp; 2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C5D-33D8-4482-8BA2-03F0B6C9D0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2:  S/D Interaction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each pursue our own goal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eed other party to make it happe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s BUY MORE WHEN PRICE IS LOW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SELL MORE WHEN PRICE IS HIG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icture worth a million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6DD-6BA4-462A-9ABC-55CE2BCF4F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hy demand down?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bstitution Effect:  buy cheaper it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come Effect:  math side; cheaper prices mean you can buy more (more REAL buying power…REAL INCOM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U:  more &amp; more gives you less &amp; les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Not the same for everyon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0F7-EAD5-4A34-8A84-57748E5AE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ts of things chang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n’t worry about the li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at matters is effe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nk about “who” fir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makes us want more or less-Deman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affects cost-Suppl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ange in demand vs change in Q d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hift of vs shift along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398-1CD4-442F-BA71-2FC3A7DB9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Smelling roses on a spring day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market is self-correcting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pply &amp; demand never stationar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ICES serve as signa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Tell us how much to buy; them how much to mak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Keeps things in balance as price can adjust to EQUILIBRIU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F3E-5744-461E-87EF-C9D60B80D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ur job is simp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 a consumer thought never progresses…buy what you wan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it’s worth it,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ider dim MU &amp; how importan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LASTICITY OF DEMAN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easures how we react to a change in price (how RESPONSIVE we ar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F5A-5880-49F8-95B3-CEA6A92597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lasticity of Deman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quation(s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don’t care…we buy (or no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elastic: E &lt; 1;  Q &lt; 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Necessities, few subs, more “important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lastic: E &gt; 1; Q &gt; 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Luxuries, many subs, less “important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646-A6E7-4145-957A-2E0F075EB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e really don’t care…they do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use this to make more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Know when to raise price (inelastic) or lower (elastic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VERYTHING ALWAYS FITS BOT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EMAND CURVE HAS SECTIONS OF EAC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NALYZE THIS USING GRAP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B3C-E9CA-4F98-988D-6A52CB980F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Use elasticity for evalu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nalytical too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Just like cross-price &amp; income elasticit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-P: determine comps &amp; sub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: determine normal vs inferio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quations &amp; exampl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574-F8E4-40F8-A7E3-BEFE032A85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Not our problem but your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buy stuff…we are happ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have to sell what we want to buy (CONSUMER SOVEREIGNTY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ir supply is most based on costs of produ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sts change so does suppl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metimes fast; others slow (TIM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442-A3D7-4896-A547-90921565F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All happy in the en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PPLY &amp; DEMAND HAVE AMAZING ABILITY TO BALAN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nk about now…what happens when we balance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etter to stay in happines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o unhappy w/ high prices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ow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DAA-835D-4ECB-B425-13EBD5F214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bjective today is to review first two section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in &amp; out in 30 minut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ore concerned with you paying attention than taking not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3A3-AC0A-4E26-B70E-DD76B6D38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Sometimes it comes from Gov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n’t like our pri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an use SUBSIDIES or EXCISE TAX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ange market price to “make it better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lso use PRICE CEILINGS &amp; FLOOR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FFSET THE NATURAL POINT OF EQUILIBRIUM (hurts some; helps others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252-17A0-4E86-8AE4-69A63B7B11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III:  The simple life (21-27)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 sweet, so simp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ife as a consumer is pretty goo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ll we have to do is buy what we want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we don’t like the price, we don’t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ole idea is to maximize utilit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Utility is satisfactio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283-DBF4-467C-AA97-C406E6424B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nce doesn’t mean agai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ur satisfaction is our goa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bought the sweetest minivan on the market…doesn’t mean I would buy a second on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U:  the more you have of something the less MU it add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At some point this always holds tru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oesn’t mean it has to start that wa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20F-54FE-4B5E-84AF-754572704B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ig menus make life har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don’t like restauran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oices STINK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want it al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en I order I usually want what someone else go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to buy what gives you the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841-ADED-43A7-81E8-5CD33C91C1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693432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9E6-194D-4F32-A887-F93212694C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ut what do I buy next?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first thing you buy is the one with the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you are still hungry you get what has the new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uld be the same thing, but after the burger and fries you may desire the milkshake the mo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E24-A347-49F5-BE86-C5C3B57FC0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ventually E is reache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 equilibrium occurs when MU/$ of each item is equalize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one thing is best you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tinuing buying until MU &lt;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en do it w/ everything end result i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1/P1 = MU2/P2 = MU3/P3…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7B5-6085-4F23-AF26-FFBA702DE2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02008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716-616F-49D6-919D-0BE75D92A1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IV:  Producers (28-47)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s buy stuff b/c they want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make &amp; sell stuff b/c they want our mone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to maximize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otal Revenue - Total Costs =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then is to maximize output while minimizing cos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B85-1CA2-48D6-ADC7-C4554B5E25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y need u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an’t make money if we don’t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create demand when we are willing &amp; able to buy stuff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ur demand creates DERIVED DEMAND for the things they need to make what we want to bu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want to buy stuff b/c they can sell it to u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84C-6E1C-4995-AF98-F3383B1E80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ack to square 1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cs is the study of choic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carce (limited) resources force us to decide what to do w/ th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 doing so we try to maximize efficiency (most output/inpu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F47-84B7-4BD6-A162-613DAB648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080120" cy="41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6BD-C744-43F1-95E1-B0D53DD5B3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ts of stuff CAN work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need to make more cook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hire more hel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buy another ove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buy a bigger mixe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ny different inputs can achieve the MB &gt; MC…which one do you buy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D02-51E8-4419-8C12-B99362C2FD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 one that does it the bes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nt to purchase what gives the highest MP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me concept as MU / $ for consumer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uying what gives highest MP / $ helps you to make more mone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TIVITY: output /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Typically per human hour worked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C2B-9A66-4978-953C-91670060AF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" y="547560"/>
            <a:ext cx="754380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F06-72DD-4D48-9D15-32AB26C76E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Result is the same as well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/producer makes no differen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nd result is the sam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1/P1 = MP2/P2 = MP3/P3…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east-cost Ru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lls you what to buy first…but when should you stop buying it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971-79F3-4606-AFD1-AA116E1422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RP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rginal revenue product = value of input = demand = willingness to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lls you how much it’s worth to you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 long as MB &gt; MC it’s ok to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RP &gt; MC then hire that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3DE-DF00-4390-A16D-F5E3FE619B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ost applicab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RP = MR x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rginal revenue x marginal produ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I can hire another worker and get another 10 dozen per hour and sell them for $3 profit per item, how much is that guy worth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Hire him as long as wage &lt; $30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3E3-E27E-4E35-8493-B9C00F1E61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0B5-3CD8-400E-8EF6-4E59B03620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R constant, MP change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r our level, MR usually always kept constant at the one selling price (PC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will change with additional uni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P:  KEEPING OTHER FACTORS CONSTANT adding additional units of one input will eventually produce less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1C0-A928-4840-B584-695ECA4295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eed the world from a flower po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assical examp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diminishing MP didn’t exi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ne flower pot, some sun, and endless fertilizer would produce enough food to feed the worl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bviously not tru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7F7-045C-48F4-9ED6-979C87A166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ase in point…PPC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raph showing different combos of two good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nt to do as well as possib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suming full use of resources &amp; technolog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B43-4DA3-4DFB-A416-EA8FDED85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82960" y="88920"/>
            <a:ext cx="4978080" cy="668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F1F-0BAE-4AFD-BA3A-120B17712F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P vs returns to sca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includes keeping all constant &amp; changing one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Returns to scale involve changing everything in like quantit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ouble everything what happen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tant, increasing, diminishing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would be changing labor but keeping everything else the sam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A43-B11A-4FF8-8FE7-B318319743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ork hard to make $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st also consider all costs-both implicit &amp; explic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xplicit is what normal people think about (stuff you pay for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mplicit is opportunity cost (stuff you give up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sts consider bot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F23-83D7-49C0-8688-948FB83FE3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different types of profi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ccounting = TR &gt; TC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Ignore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ormal Profit:  TR = T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ider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c Profit:  TR &gt; T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ider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ADB-8319-483A-B30C-7DA8B95926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ve the cost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C, VC, TC, AVC, AFC, ATC, M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C = capital (output irrelevan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VC = land &amp; labor (based on outpu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C = cost to make one mo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raphs rule!!!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475-FF25-4799-9FE0-5C160859B1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480080" cy="36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4D1-1D14-4F78-99FA-03C439C2A94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031840" y="406440"/>
            <a:ext cx="5421600" cy="645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ACF-906F-4C64-BC50-D3F7E9ED9C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8600" y="846000"/>
            <a:ext cx="815328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E18-4AE2-4961-9385-444DE04064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78D-AA4C-4F17-8D60-02E0460E90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roducers &amp; consumer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esn’t matter who you a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me goal…get as much as possib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 versus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tisfaction versus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et away from “study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et into “thought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BA0-1AF0-462F-9AE6-157E14674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oth guided by “invisible hand”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lf-regulating nature of marke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all do what’s good for u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veryone doing that makes everything fun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46D-EE7F-457D-AA4F-E3528354FC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at becomes a problem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iff between command &amp; market economie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arkets are like pretty flower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mmand are like gym cla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All decide What? How? For whom?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mmand fail due to lack of incentiv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arkets thrive on private property &amp; protection of ability to benefit from hard work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EC5-B623-49B4-A859-D5DD34C06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arkets on auto pilo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illions of transactions per da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o one pulling string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ts &amp; money flow around the circular flow mod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mplified mod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971-3F4C-438D-BE58-E967AF68E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actors of Produc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tuff flows one way; money the othe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actor market, product marke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ll factors of produ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uy produc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oney is used to buy things, but is not in itself a productive resour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523-D402-4CE9-8574-A2B58CF4D4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1:43:23Z</dcterms:created>
  <dc:creator>Lewisburg Area School District</dc:creator>
  <dc:description/>
  <dc:language>en-US</dc:language>
  <cp:lastModifiedBy>Lewisburg Area School District</cp:lastModifiedBy>
  <dcterms:modified xsi:type="dcterms:W3CDTF">2010-04-21T16:29:37Z</dcterms:modified>
  <cp:revision>12</cp:revision>
  <dc:subject/>
  <dc:title>Time to Party…almost</dc:title>
</cp:coreProperties>
</file>